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2FE5-926C-4D72-A9EC-A945913E66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B381-DEBC-406D-B41C-7FA75580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0800-D0F6-417A-A4EA-4B6C145F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214E-583E-4255-B606-548F5A2C8A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47E51-159A-4F09-89FC-6A0FBE0E08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340BB-D9BB-4150-B9CE-13D0A643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EB09F-0C68-4EB2-BEE0-5F2937A0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DDF34-3F8D-4BE5-A698-DEE6017B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3337A-3951-410A-BDA6-BE5B6B31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BEF30-61B3-4B83-BC6B-EBB6E699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C79B0-B273-4602-B1D0-342D3C20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550C9-78CD-4561-8BEC-8D18300A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20212-54DA-4B04-94FE-C84215D1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A0E2A-9826-4564-8888-DF872BD4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C93BC-B7C2-4950-9CB6-0857EA4C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68CF3-F258-4A1C-9656-B8B2BE95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126F8-9EBE-4F2C-9E89-53BE9C08B8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4D27-473A-45A5-91DD-16B35572C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A36A-9AB5-4899-A0F1-D6DD5400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A2EB-10E9-4D6C-B3FA-4D7FBD75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D807-05D3-4B42-9887-D616044E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E187-9F29-4F79-8AFB-2776BFD6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7193B-335C-43A7-A7FB-43D34946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9EF6-36D6-4DAF-A845-E853ED99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DD21-B368-4A86-A0D1-76787EDA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B3E2-0007-490B-98E8-57B49714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25B9-8EE5-47A6-B0BD-FBE8CA62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9660-891E-4F4E-92D6-A2ED4994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3316-B477-462C-AA0A-72E7065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7DA4-385F-4BA1-99CA-3D1EB802E8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D7D49-0538-4918-99FB-7BD0F5F597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3771E-A5B0-4408-BE18-5EC3405D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077F3-6D93-40BC-9408-A3E1D245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F489-4150-4CB1-87D5-8189855E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C3CFA-566C-4556-8EC0-55408E42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C925E-B81C-4A70-AF5C-D2E469AA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D1CDC-7043-46D0-9977-178A9EA8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418E9-F2D4-426C-9151-B6E06F75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37268-C38F-4FF3-91E9-9C1CC4C2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C2813-691F-460B-932D-13986F01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3E7B1-46CC-41E5-8990-A0B18435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A95C3-414B-48A8-B235-56320F19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047C8-4A1E-4EFD-85DB-E1AD3819D4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73AD-ACDF-4D0A-9582-E081CB96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09FB-434D-4C36-969B-18DC5324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F2D9-5BB7-4EB8-901F-0633DE5E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DB0E1-D07E-4A9A-882E-577DEB04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FA08-E9A5-498A-B339-99E59C78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1DC3EF-4E3C-4D08-8DE4-7863103E5A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DFDB792-BADF-4801-BC77-F4B8F353F4F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5BAA560-9E27-43B2-A218-F59D74422B5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65206-821B-42EC-9F85-19B646465E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aganonline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530280" y="1365120"/>
            <a:ext cx="7864560" cy="1901880"/>
            <a:chOff x="530280" y="1365120"/>
            <a:chExt cx="7864560" cy="190188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530280" y="1365120"/>
              <a:ext cx="786456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30280" y="1365120"/>
              <a:ext cx="7864560" cy="19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33520" y="3228840"/>
            <a:ext cx="7854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il Trevi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mbered Heads Toge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eams of four are establish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Each member is given a number of 1, 2, 3 or 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Questions are asked of the gro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Groups work together to answer the ques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eacher calls out number ( 2) and each person with that number is asked to give and answ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m Pair So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do problems as a te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then do problems with a partn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Do problems on their 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ircle the s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eacher calls on a students seeking which students have special knowledge of a subje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he sages spread out in the ro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surround the sage while the sage explains what they know while students listen, ask questions and take no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return to teams to share what they learned from the sage they received information fro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tn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lass is divided into teams of four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artners move to one side of roo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Half of each team is given an assignment to master and to be able to teach the other half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artners work to learn and can consult with other partners working on the same material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eams go back with each set of partners teaching the other set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artners quiz and tutor teammates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re Ideas?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ult you handout for more ideas in making cooperative learning group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it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Constantia"/>
                <a:hlinkClick r:id="rId2"/>
              </a:rPr>
              <a:t>http://www.kaganonline.com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or more ideas tips and training opportuni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operative learn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/>
          <p:nvPr/>
        </p:nvSpPr>
        <p:spPr>
          <a:xfrm>
            <a:off x="357516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1440" indent="-271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aching strategy involving small team of studen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sually students of varying ability are grouped togeth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ammates are responsible for all team members progres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29084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y Use Cooperative learning?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 student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rease student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learning ski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social ski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hance learning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 positive relationship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does cooperative learning help your classroom?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positive interdepen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vidual and group accountabi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rts success of grou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aches communication skills to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otes group process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can you incorporate cooperative learning?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igsa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Groups are establish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Each person is assigned unique material to lear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collaborate with other students with the same materi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Decisions are made on how to teach the subje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experts” teach other grou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nk-Pair-Sh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think individually about a ques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share with partner and exchange though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he pairs share responses with other pairs or the entire grou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ee Step Inter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Each member of a team chooses another member to be a partn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Individuals interview partners by asking clarifying ques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Partners reverse ro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embers share their partner’s response to the te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und Robin – Brainstorm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lass is divided into small groups ( 4 to 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One person is appointed as the recor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 question with many different answers is posed and time is given to think about answ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embers of the team share responses in a round robin sty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ecorder  writes down respon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ee minute re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Teachers stop during  a lecture or review and give teams three minutes to review what has been sai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tudents may ask clarifying questions or answer ques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5:26:54Z</dcterms:created>
  <dc:creator>GilsQuad</dc:creator>
  <dc:description/>
  <dc:language>en-US</dc:language>
  <cp:lastModifiedBy>GilsQuad</cp:lastModifiedBy>
  <dcterms:modified xsi:type="dcterms:W3CDTF">2010-06-02T23:58:39Z</dcterms:modified>
  <cp:revision>20</cp:revision>
  <dc:subject/>
  <dc:title>Kagan Strategies</dc:title>
</cp:coreProperties>
</file>